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5099-7B7F-4287-A9DB-7E5C29D81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286A-BD5B-4B5C-8115-BF6C33903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B06-48BD-4786-ABC5-8D70F4EE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BE1-135D-41EE-B171-E907B1F7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C78-7872-4813-B64F-4D7AE618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FE7-2F6F-452E-A57D-FDB1490C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1E13-A62E-4A74-8D2D-F638E94F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35B2-F980-4264-8982-B1E24975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4027-0256-475E-B2C3-F0193F77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D973-EA63-43DD-9C8A-AE5B25E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4FB7-4105-4C05-A5BD-39E81CA9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E307-25D7-4E95-9B15-26D1042C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527E-F80B-4B7D-A235-F86EB26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0AF-AC3B-4B1D-8448-2D71D45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C5F8-F98D-4ED5-AA61-4B8C8184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E699-AA08-4EF2-AA2A-27C749E7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45E3-12FC-403B-9E7D-F9058096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BF55-1438-46BD-8FBC-35D3DEFA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8CA0-6153-4411-85BF-82517BC4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3E5-4BD5-4951-B613-6C51C5BF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7FE-FDA8-47B0-8369-9AB52CDB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657-9204-41C8-BA0C-8688557F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604-500A-4AC1-9A91-F7FFD64D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519-705A-478F-80A1-1722A4C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87C-F72A-4C61-A2E2-C60CED5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602-C4B8-42BF-BB9C-A312176B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6E95-1632-4FF4-9BFD-A666925E0D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B140-48C9-403D-934F-8057E3CF62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ection 1: Chemis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ction with ac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with acid. The ability of a substance to react with acid is a chemical prope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some substances that react with acids such as vine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you drink ac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the side of a Coke 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rro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rro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slow chemical change that occurs when a metal reacts with oxygen from the air.  This chemical reaction forms a new substance called an 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kinds of corro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corro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ver tar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s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hemical change that involves iron, oxygen from the air, water, and salt or other minerals that may be dissolved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we normally see ru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 do to prevent ru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uminum Corro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um has a chemical property similar to iron in that it reacts with oxygen to form an 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uminum oxid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orms is strong and it is unaffected by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lver tarnis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ke iron and aluminum, silver does not react with oxygen but it does react with sulph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lphur is foun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 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ver sulphide causes silver to develop a black co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ack layer is annoying but it can be removed by polishing the sil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venting Corro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ways to prevent corro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ing metal prevents oxygen from getting at the 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stic instead of st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hodic prot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using one metal to attract corrosion (oxygen) from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quantitative physical property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heavier: a 12 inch bar of gold or a pillow full of fea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12 inch bar of gold weighs more than a pillow full of feathers even though the pillow takes up more space?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 is more dense.  It has more matter per unit volu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ns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amount of matter per unit volume of that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(D) = Mass (m) / Volume (V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know any two of the three variables (D, m, V), you can solve for the th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= D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= m /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ple density question #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rock has a mass of 49 g and occupies a  volume of 7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at is the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49 g / 7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7.0 g/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t 1 –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ything that has mass and takes up sp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matter chan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 – e.g. snow melting, water boi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lve these sample density question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   An object has a mass of 250 g and occupies a volume of 14.5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at is the dens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   A piece of wood occupies a volume of 46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it has a mass of 100 g.  What is the density of the wo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   An unknown metal has a density of 2.6g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 mass of 15 g.  How much volume does this piece of meal occu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    A sample of a particular liquid has a density of  6.85 kg/L and it occupies a volume of 3.4 L.  How much does this particular sample weig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 to question #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250 g/14.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17.24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 to question #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100g / 46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2.17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 to question #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m/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15g / 2.6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5.77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 to question #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= D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= 6.85 kg/L x 3.4 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= 23.29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* Note that volume can be expressed as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l, or even 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pproximate Densities of Some Common Material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s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g/m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/cm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i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7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od (birch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lle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ter is denser than ice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this so impor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eans that ice floats in water instead of sinking.  Think of the poor fish if this was not the c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ice less dense than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ater freezes, it expands which means that the same mass of water is spread over a greater volu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questions 2, 3, 4 on page 25 of the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M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MIS (Workplace Hazardous Material Information Syst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ymbols are found on products to indicate exactly why and to what degree a product is danger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signment #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simple map of your home and indicate where you would have found products with some of the hazardous household product symbols that we have discus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mean by the properties of an objec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pert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 simply a characteristic that we can use to describe some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hysical properti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emical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7 Physical and Chemical Chang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rning candle – what happe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candle burns, the wax melts (a solid becomes a liquid), and then it hardens (a liquid becomes a solid).  These are physic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x also combusts producing heat and light.  This chemical change involves the wax becoming carbon dioxide, water, and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 physical chang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cha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substance involved remains the same substance, even though it may change state or form.  When candle wax melts, it is still w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of state – melting, boiling, freezing, condensing, and dissolving – are physical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hysical changes are easy to re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 chemical chang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chemical change, the original substance is changed into one or more different substances that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candle wax melts, some of the wax particles combine with oxygen to produce water vapour, carbon dioxide, heat, and light, but it is still wax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mical change always involves the production of new substances.  Examples include burning, cooking, and ru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hemical changes are difficult to re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ues That a Chemical Change Has Happened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colour app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or light is given 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bbles of gas are fo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lid material forms in a liquid.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ipi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nge is difficult to re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questions 2 and 3 on page 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.2 Physical Properti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hysical property does not involve a substance becoming a new sub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types of physical properties that you may want to desc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u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red, green, blue, 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ure – smooth, fine, coarse, 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te – sour, salty, sweet, 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2 Other Physical Properties of Mat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s of ma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room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, liquid, plasma, or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d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easure of the resistance of a solid to be scratched or de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le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opposite of brittle.  Glass and dried  clay are examples of things that are brittle.  Aluminum foil is malleable.  Gold is malleable since it can be hammered into thin she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 i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cti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it can be pulled into wi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lting and boiling poin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oiling point of water? The melting point of 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ystal fo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Example, sa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lu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ability of a substance to dissolve in a solvent such as water.  Salt is soluble while pepper i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nsi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mass per unit vol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2 Chemical Properties of Mat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mical proper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the behaviour of a substance as it becomes a new sub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bustibility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f a substance is combustible or flammable, it will burn when exposed to a flame.  A substance that will not burn is described as nonflamm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some materials that are combust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some materials that are nonflamm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 combustion, a substance reacts rapidly with oxygen and releases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may be in the form of heat and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ubstances can act as fuels.  E.g. wood, diesel oil, and keros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bustion: The Fire Triang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e triangle is a convenient way to remember the three components of any combustion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ing any one of these makes the triangle incomplete and puts out the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21:30:06Z</dcterms:created>
  <dc:creator>cookamy</dc:creator>
  <dc:description/>
  <dc:language>en-US</dc:language>
  <cp:lastModifiedBy>amy.cook</cp:lastModifiedBy>
  <dcterms:modified xsi:type="dcterms:W3CDTF">2010-09-15T15:47:07Z</dcterms:modified>
  <cp:revision>93</cp:revision>
  <dc:subject/>
  <dc:title>Section 1: Chemistry</dc:title>
</cp:coreProperties>
</file>